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2E7A-369B-4D4D-B2BE-DD8EA7F71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5F03-C601-49D4-815B-D83AC71FD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f reflection for teachers to self-assess.  REVERSE - Teaching Home Ec like teaching 20 years ago, textbook bound and large emphasis on cooking and sewing.  FHA is extra-curricular or non-existent.  Drive  EXCELLING in curriculum aligned to all state and national standards and having an active co-curricular Family, Career and Community Leaders (FCCLA) organiz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EA5F-AC5A-4D24-9221-9819E450B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explained in further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61D3-CB71-4387-90F9-CDB8E7C16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Standards were developed because of shifts in society and economics, reforms in education and evolution in family and consumer sciences.  Our shift to National Standards is driven by the standards educational reforms of the early 90s and more recently, the requirement of Carl Perkins legislation that all career education programs need to lead to an industry-recognized certificate.  In most cases this requires students to pass some type of standardized assessment.  By complying you are going to make your program better for all your students in both family and career focused courses.  Up-coming end of program assessments for completers (Students with 3 years of any FACS classes) will be based on these standards as well.  In today’s mobile society students move in and out of your district and there needs to be consistency in their education across the country.  Students, no matter what district, large or small, city or rural need to have the same quality of edu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A56B-C106-40EF-824C-35DEC725E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iculum strongly supports the family in developing all students not only as successful family members but also as productive workers.  One easy way to do this is to add a career component to an assessment you are already doing.  Let a student approach the same assignment with a career focus.  Most FACS departments are already doing this.  We also need to be sure the Family and Consumer Sciences Curriculum includes the 3 Rs’  rigor, relevance and relationships.  Rigor is extremely important when preparing students to move to the nex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3965-C60A-4FFC-9EDD-39DB25FBD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and Consumer Sciences courses being offering should be reflective of the labor market need in your area or region.  In your handout is the home page (missourieconomy.org) for statewide data for labor market needs to use as a resource to research the labor market in your  regional area.  Remember that all jobs do not meet the criteria of high skill, high wage or high demand which is the wording specified in Perkins legislation.   It is important to remember that low wage jobs can be high skill also. A high skill job  does take training .  For  Work of the family there is  a 100% demand.  It is the highest demand job in the world.  A family can be one person or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areer and Technical education (High tech does not mean technology)  Level of specificity (specific skills) makes it technic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0643-4404-4B1F-98D1-E9C77F6DA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you may need to know and correspond with is your area Tech-Prep Coordinator.  </a:t>
            </a:r>
            <a:r>
              <a:rPr b="0" lang="en-US" sz="1200" spc="-1" strike="noStrike">
                <a:solidFill>
                  <a:srgbClr val="ff0000"/>
                </a:solidFill>
                <a:latin typeface="Arial"/>
              </a:rPr>
              <a:t>In your packet is a copy of the current coordinators for your area and information about how to contact them. (insert website into slide) also insert link to national FCS standards  </a:t>
            </a:r>
            <a:r>
              <a:rPr b="0" lang="en-US" sz="1200" spc="-1" strike="noStrike">
                <a:solidFill>
                  <a:srgbClr val="000000"/>
                </a:solidFill>
                <a:latin typeface="Arial"/>
              </a:rPr>
              <a:t>They will be receiving software that will be utilized to align programs to the Career Cluster and Career Pathway knowledge and skills.  Currently curriculum is aligned to the Missouri Competencies and Grade Level Expectations (GLEs) and alignment to National Standards is in process.  As curriculum is revised or developed in Missouri the shift will be made to utilize National Standards.  National Standards are not analogous to courses.  An area of the standards can be address in several courses or one course can have standards from several areas of study.  Higher levels of Depth of knowledge and rigor and relevance are very important to keep in mind when planning your curriculum .  The National standards are fewer and broader  than Missouri standards which can give you more freedom for individual lessons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p coordinators can help with articulation agreements between all  educational  levels of Family and Consumer Sciences progra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9892-DD60-4271-800C-69D94A181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going to have to necessarily invent the wheel.  Work is currently being done across the state to develop Programs of Study models.  It is essential that FCS classes be a integral part of some Program of Study at your district level.   Remember that we are all in this togeth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994A-68FB-48B1-A001-F0A0AC326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many additional professional development trainings and opportunities to learn more about the Programs of Study.  Please be open and willing to attend these trainings to learn more about the changes to our Family and Consumer Sciences programs.  This change is not easy as we can personally attest.  It is a long-term on going process.  The benefits to our students’ should be to better prepare them not only for the work of the family but for the world of work. Programs built around career pathways and programs of study should allow a student to make the transition smoothly from secondary to postsecondary to the world of work or immediately into the work force. It will benefits for our students’ in their family life and careers decis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5D7B3-FE4C-4B82-B309-4CD076DD6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443A0-BBF4-41C0-B586-54E5C5BF8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CF7E9-CD2A-4E96-A9BE-BD2EA62D8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A0EF0-B6C2-4693-BD34-7AD5F9A59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ABAD-21C9-4B78-8C2D-BAF566648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FD1D-0FAB-470D-B2DC-6AF16768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6FF5-564A-422F-92F2-E199E1FE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3491-3B5D-49CA-A57A-18471E4DA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254CD-7E3E-4752-9AF8-E909F755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542F-5042-49E4-BD44-4C734F81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623E9-286F-46C8-B0DE-C6DDFF44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393A-9488-4250-8E23-D26993464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7E25-2E17-4F7D-8736-A3B2FB030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MPj04012840000[1]"/>
          <p:cNvPicPr/>
          <p:nvPr/>
        </p:nvPicPr>
        <p:blipFill>
          <a:blip r:embed="rId1">
            <a:lum bright="70000" contrast="-70000"/>
          </a:blip>
          <a:srcRect l="11719" t="0" r="0" b="0"/>
          <a:stretch/>
        </p:blipFill>
        <p:spPr>
          <a:xfrm>
            <a:off x="0" y="1440"/>
            <a:ext cx="9144000" cy="6904080"/>
          </a:xfrm>
          <a:prstGeom prst="rect">
            <a:avLst/>
          </a:prstGeom>
          <a:ln w="0">
            <a:noFill/>
          </a:ln>
        </p:spPr>
      </p:pic>
      <p:sp>
        <p:nvSpPr>
          <p:cNvPr id="51" name="Text Box 7"/>
          <p:cNvSpPr/>
          <p:nvPr/>
        </p:nvSpPr>
        <p:spPr>
          <a:xfrm>
            <a:off x="0" y="2362320"/>
            <a:ext cx="8839080" cy="289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I Get from Where I Am to Where I Need to B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Arial"/>
              </a:rPr>
              <a:t>What Gear Are You 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to help you shift ge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FCS Standards</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afcs.org/FCSstandard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 Curriculum/Competencies</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issouricareereducation.org/curr/facs1.htm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Prep Consortium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dese.mo.gov/divcareered/tp_contacts_locations.ht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 Labor Market Dat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missourieconomy.org/customer/edu_stu.stm</a:t>
            </a:r>
            <a:endParaRPr b="0" lang="en-US" sz="2400" spc="-1" strike="noStrike">
              <a:solidFill>
                <a:srgbClr val="000000"/>
              </a:solidFill>
              <a:latin typeface="Arial"/>
            </a:endParaRPr>
          </a:p>
        </p:txBody>
      </p:sp>
      <p:pic>
        <p:nvPicPr>
          <p:cNvPr id="78" name="Picture 4" descr="j0391678"/>
          <p:cNvPicPr/>
          <p:nvPr/>
        </p:nvPicPr>
        <p:blipFill>
          <a:blip r:embed="rId1"/>
          <a:stretch/>
        </p:blipFill>
        <p:spPr>
          <a:xfrm>
            <a:off x="7162920" y="1600200"/>
            <a:ext cx="167616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You Now?</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teaching Home Econom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 (I know I need to change but I don’t know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Survi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Gear (Missouri Compet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Gear (Moving to National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 (Excell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7" descr="MCj02810110000[1]"/>
          <p:cNvPicPr/>
          <p:nvPr/>
        </p:nvPicPr>
        <p:blipFill>
          <a:blip r:embed="rId1"/>
          <a:stretch/>
        </p:blipFill>
        <p:spPr>
          <a:xfrm>
            <a:off x="533520" y="1523880"/>
            <a:ext cx="286992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We Going?</a:t>
            </a:r>
            <a:endParaRPr b="0" lang="en-US" sz="4400" spc="-1" strike="noStrike">
              <a:solidFill>
                <a:srgbClr val="000000"/>
              </a:solidFill>
              <a:latin typeface="Arial"/>
            </a:endParaRPr>
          </a:p>
        </p:txBody>
      </p:sp>
      <p:pic>
        <p:nvPicPr>
          <p:cNvPr id="56" name="Picture 4" descr="MCj02810100000[1]"/>
          <p:cNvPicPr/>
          <p:nvPr/>
        </p:nvPicPr>
        <p:blipFill>
          <a:blip r:embed="rId1"/>
          <a:stretch/>
        </p:blipFill>
        <p:spPr>
          <a:xfrm>
            <a:off x="5029200" y="1295280"/>
            <a:ext cx="2889360" cy="4876920"/>
          </a:xfrm>
          <a:prstGeom prst="rect">
            <a:avLst/>
          </a:prstGeom>
          <a:ln w="0">
            <a:noFill/>
          </a:ln>
        </p:spPr>
      </p:pic>
      <p:sp>
        <p:nvSpPr>
          <p:cNvPr id="57" name="Text Box 8"/>
          <p:cNvSpPr/>
          <p:nvPr/>
        </p:nvSpPr>
        <p:spPr>
          <a:xfrm>
            <a:off x="609480" y="1447920"/>
            <a:ext cx="39625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to National Standards for Curriculum Plann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of Family Focused and Career Focused Cours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to Labor Market Need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sources to Align Program and Model Programs of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ational Standard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s with Industry Standards and end of program assess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s scope and credibility of Family and Consumer Scien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ies and defines vision and mis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othes transitions beyond our classro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s with consistency among programs across the country</a:t>
            </a:r>
            <a:endParaRPr b="0" lang="en-US" sz="2000" spc="-1" strike="noStrike">
              <a:solidFill>
                <a:srgbClr val="000000"/>
              </a:solidFill>
              <a:latin typeface="Arial"/>
            </a:endParaRPr>
          </a:p>
        </p:txBody>
      </p:sp>
      <p:pic>
        <p:nvPicPr>
          <p:cNvPr id="60" name="Picture 4" descr="MCj03113280000[1]"/>
          <p:cNvPicPr/>
          <p:nvPr/>
        </p:nvPicPr>
        <p:blipFill>
          <a:blip r:embed="rId1"/>
          <a:stretch/>
        </p:blipFill>
        <p:spPr>
          <a:xfrm>
            <a:off x="3276720" y="3886200"/>
            <a:ext cx="242244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Balance of Family Focused and Career Focused Courses</a:t>
            </a:r>
            <a:br>
              <a:rPr sz="4000"/>
            </a:br>
            <a:endParaRPr b="0" lang="en-US" sz="3200" spc="-1" strike="noStrike">
              <a:solidFill>
                <a:srgbClr val="000000"/>
              </a:solidFill>
              <a:latin typeface="Arial"/>
            </a:endParaRPr>
          </a:p>
        </p:txBody>
      </p:sp>
      <p:sp>
        <p:nvSpPr>
          <p:cNvPr id="62" name="PlaceHolder 2"/>
          <p:cNvSpPr>
            <a:spLocks noGrp="1"/>
          </p:cNvSpPr>
          <p:nvPr>
            <p:ph/>
          </p:nvPr>
        </p:nvSpPr>
        <p:spPr>
          <a:xfrm>
            <a:off x="3504960" y="1600200"/>
            <a:ext cx="5181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courses integrate concepts of work and family and may be for exploratory or career prepa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for all students are concepts such as building on family strengths; providing nutritional meals; parenting; and managing resources including time, energy, and mone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Consumer Sciences programs contribute significantly to preparing workers in nearly one third of the occupations that are expected to experience the largest growth in Missouri during the first part of this centur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4" descr="MCj03121240000[1]"/>
          <p:cNvPicPr/>
          <p:nvPr/>
        </p:nvPicPr>
        <p:blipFill>
          <a:blip r:embed="rId1"/>
          <a:stretch/>
        </p:blipFill>
        <p:spPr>
          <a:xfrm>
            <a:off x="838080" y="2133720"/>
            <a:ext cx="2514600" cy="240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Labor Market Connection?</a:t>
            </a:r>
            <a:endParaRPr b="0" lang="en-US" sz="4000" spc="-1" strike="noStrike">
              <a:solidFill>
                <a:srgbClr val="000000"/>
              </a:solidFill>
              <a:latin typeface="Arial"/>
            </a:endParaRPr>
          </a:p>
        </p:txBody>
      </p:sp>
      <p:pic>
        <p:nvPicPr>
          <p:cNvPr id="65" name="Picture 6" descr="MCj03207440000[1]"/>
          <p:cNvPicPr/>
          <p:nvPr/>
        </p:nvPicPr>
        <p:blipFill>
          <a:blip r:embed="rId1"/>
          <a:stretch/>
        </p:blipFill>
        <p:spPr>
          <a:xfrm>
            <a:off x="685800" y="2438280"/>
            <a:ext cx="3657600" cy="2845080"/>
          </a:xfrm>
          <a:prstGeom prst="rect">
            <a:avLst/>
          </a:prstGeom>
          <a:ln w="0">
            <a:noFill/>
          </a:ln>
        </p:spPr>
      </p:pic>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taught need to be driven by labor de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egislation requires that we are teaching skills for jobs that are high skill, high wage, or high de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economy.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Make it Align?</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Tech-Prep Coordinator as a resou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our curriculums are already aligned to Missouri Competenc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just a little bridge to the National Standards</a:t>
            </a:r>
            <a:endParaRPr b="0" lang="en-US" sz="2800" spc="-1" strike="noStrike">
              <a:solidFill>
                <a:srgbClr val="000000"/>
              </a:solidFill>
              <a:latin typeface="Arial"/>
            </a:endParaRPr>
          </a:p>
        </p:txBody>
      </p:sp>
      <p:pic>
        <p:nvPicPr>
          <p:cNvPr id="69" name="Picture 4" descr="MPj04013400000[1]"/>
          <p:cNvPicPr/>
          <p:nvPr/>
        </p:nvPicPr>
        <p:blipFill>
          <a:blip r:embed="rId1"/>
          <a:stretch/>
        </p:blipFill>
        <p:spPr>
          <a:xfrm>
            <a:off x="457200" y="1600200"/>
            <a:ext cx="299088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I Have to Develop My Own Programs of Study?</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currently being developed across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 Development, Hospitality, and Culinary Arts are currently being developed and others will fol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Consumer Sciences classes need to be included in a program of study.</a:t>
            </a:r>
            <a:endParaRPr b="0" lang="en-US" sz="2400" spc="-1" strike="noStrike">
              <a:solidFill>
                <a:srgbClr val="000000"/>
              </a:solidFill>
              <a:latin typeface="Arial"/>
            </a:endParaRPr>
          </a:p>
        </p:txBody>
      </p:sp>
      <p:pic>
        <p:nvPicPr>
          <p:cNvPr id="72" name="Picture 7" descr="MCj02386510000[1]"/>
          <p:cNvPicPr/>
          <p:nvPr/>
        </p:nvPicPr>
        <p:blipFill>
          <a:blip r:embed="rId1"/>
          <a:stretch/>
        </p:blipFill>
        <p:spPr>
          <a:xfrm>
            <a:off x="4495680" y="2362320"/>
            <a:ext cx="3370320" cy="27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You Shift Gear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 professional development  workshops on Programs of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your Family and Consumer Sciences curriculum to the National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be afraid to shift g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j0391678"/>
          <p:cNvPicPr/>
          <p:nvPr/>
        </p:nvPicPr>
        <p:blipFill>
          <a:blip r:embed="rId1"/>
          <a:stretch/>
        </p:blipFill>
        <p:spPr>
          <a:xfrm>
            <a:off x="3352680" y="4419720"/>
            <a:ext cx="2438640" cy="209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9:52:06Z</dcterms:created>
  <dc:creator>FAC</dc:creator>
  <dc:description/>
  <dc:language>en-US</dc:language>
  <cp:lastModifiedBy>Sue Witte</cp:lastModifiedBy>
  <dcterms:modified xsi:type="dcterms:W3CDTF">2008-07-15T20:51:37Z</dcterms:modified>
  <cp:revision>45</cp:revision>
  <dc:subject/>
  <dc:title>Slide 1</dc:title>
</cp:coreProperties>
</file>